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13.jpeg" ContentType="image/jpe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A6283-FC03-44CF-8802-74CF1E8030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Characteristics of Successful Literacy Classrooms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 group, and going back to curriculum being the driver, lets identify your student populations’ reading barriers--what’s keeping them from achieving benchmarks, standards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s is OHIO-they’ve created and adopted the multi-demensional cone that addresses distinguishes between academic and behavioral intervention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ademics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(Empirically validated instruction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l Education: All stud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ndard Protocol Treatments: Small group tutoring (3-4) in general educatio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blem Solving: Individualized interventions in general education leading to, in some cases, sp ed eligibil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spcAft>
                <a:spcPts val="4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pecial education: More intense services brought to stud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reasing intensity and measurement preci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ehavior-(Empirically validated behavior change principl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l Education: School wide positive discipli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ndard Protocol Treatments: Classroom organization and manag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blem Solving: Targeted individual interventions in general edu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pecial education: More intense services brought to the stud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reasing intensity and measurement preci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228600" y="4343040"/>
            <a:ext cx="647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se of the cone is divided into six par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lcom to Arizona, they like the circle--same as the three-tiered pyrami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common requirements identified by NCLB and 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Characteristics of Successful Literacy Classrooms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628A-4FAA-40E6-B2B1-4CE7F14F4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3AA8-3C3C-4136-92D2-2B534747F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F47D-FE03-4998-B4BB-95B5EABFC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EBE0-3394-447B-B412-9CA55ADAD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4A70C-5AC8-4F79-B304-361BB69CD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2270B-B3F1-4EDF-B13C-A1CA1AE3E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B0FFC-1980-4EB5-9229-C6F4FA907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9CFF9-CECB-41D5-9080-6F3DF38AB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7B5A2-A747-4BDA-8006-A23D43A5E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F6D38-AAF2-44ED-8B33-DACD3481C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AA7E0-2992-4DB7-AC1A-2A6A2B55F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3722-A722-4F0F-860F-E34AAD671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21EE8-E5ED-4195-AD96-820D02C89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82E20-7A7D-4C4B-9F3E-600B46E79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C8DD6-8D92-4961-8F92-A6D211E36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C877F-1DD4-4A22-8031-E01F1804D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EBBB0-C181-4EE9-8E7C-30A666A98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AB28-D85E-4688-A37E-3EC358068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2808-A61D-41B8-A292-AE6E16BAF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31C9-EFFD-4DE9-9654-3592976AC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ECAA-3065-4C9A-8F8C-FFF774C95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8800-6EE6-46F6-8D7F-292177866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63AC-7130-4149-B234-CE4980902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6226-E039-42ED-BC9C-3FF7587F5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4BAA5-CF30-457A-8AC6-4BFAB9A530E6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F4018-11A7-4DF8-A907-ACB40D472956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RtI – 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Just another anacronym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914040" y="533160"/>
            <a:ext cx="7543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675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 great deal of time spent actually readin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75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xperience reading texts for real reas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75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xperience reading the range of texts genres students are expected to comprehen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75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ironment rich in vocabulary and concept development through reading, experience, and above all, discussion of words and their meaning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75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ime spent writing texts for others to comprehen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75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High-quality talk about tex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095880" y="6537240"/>
            <a:ext cx="27432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uke and Pearson, 200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621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Reading Performance Barriers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761760" y="2895120"/>
            <a:ext cx="7543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ri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ateg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971800" y="304812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943600" y="2971800"/>
            <a:ext cx="0" cy="327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076960" cy="62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28600" y="31752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1919"/>
                </a:solidFill>
                <a:latin typeface="Arial"/>
                <a:ea typeface="ＭＳ Ｐゴシック"/>
              </a:rPr>
              <a:t>An Integrated Systems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1919"/>
                </a:solidFill>
                <a:latin typeface="Arial"/>
                <a:ea typeface="ＭＳ Ｐゴシック"/>
              </a:rPr>
              <a:t>Intervention Based Services &amp; Positive Behavior Sup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1523880"/>
            <a:ext cx="3962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0325b"/>
                </a:solidFill>
                <a:latin typeface="Arial"/>
                <a:ea typeface="ＭＳ Ｐゴシック"/>
              </a:rPr>
              <a:t>Academic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0325b"/>
                </a:solidFill>
                <a:latin typeface="Arial"/>
                <a:ea typeface="ＭＳ Ｐゴシック"/>
              </a:rPr>
              <a:t>Empirically Validated instr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76920" y="1447920"/>
            <a:ext cx="4114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0325b"/>
                </a:solidFill>
                <a:latin typeface="Arial"/>
                <a:ea typeface="ＭＳ Ｐゴシック"/>
              </a:rPr>
              <a:t>Behavioral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0325b"/>
                </a:solidFill>
                <a:latin typeface="Arial"/>
                <a:ea typeface="ＭＳ Ｐゴシック"/>
              </a:rPr>
              <a:t>Empirically Validated Behavior Change Princi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486400" y="6686640"/>
            <a:ext cx="3657600" cy="171360"/>
          </a:xfrm>
          <a:prstGeom prst="rect">
            <a:avLst/>
          </a:prstGeom>
          <a:solidFill>
            <a:srgbClr val="cc9900"/>
          </a:solidFill>
          <a:ln w="6480">
            <a:solidFill>
              <a:srgbClr val="30325b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0325b"/>
                </a:solidFill>
                <a:latin typeface="Arial"/>
                <a:ea typeface="ＭＳ Ｐゴシック"/>
              </a:rPr>
              <a:t>Adapted from OSEP Effective School-Wide Interven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4268880" y="2755800"/>
            <a:ext cx="3441600" cy="1066680"/>
            <a:chOff x="4268880" y="2755800"/>
            <a:chExt cx="3441600" cy="1066680"/>
          </a:xfrm>
        </p:grpSpPr>
        <p:sp>
          <p:nvSpPr>
            <p:cNvPr id="100" name=""/>
            <p:cNvSpPr/>
            <p:nvPr/>
          </p:nvSpPr>
          <p:spPr>
            <a:xfrm>
              <a:off x="4967280" y="3124080"/>
              <a:ext cx="27432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6600"/>
                  </a:solidFill>
                  <a:latin typeface="Arial"/>
                  <a:ea typeface="ＭＳ Ｐゴシック"/>
                </a:rPr>
                <a:t>5-10% Targeted-Classroom Organization and Manage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4268880" y="2755800"/>
              <a:ext cx="752400" cy="1066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2" name=""/>
          <p:cNvGrpSpPr/>
          <p:nvPr/>
        </p:nvGrpSpPr>
        <p:grpSpPr>
          <a:xfrm>
            <a:off x="863640" y="2743200"/>
            <a:ext cx="3390480" cy="1066680"/>
            <a:chOff x="863640" y="2743200"/>
            <a:chExt cx="3390480" cy="1066680"/>
          </a:xfrm>
        </p:grpSpPr>
        <p:sp>
          <p:nvSpPr>
            <p:cNvPr id="103" name=""/>
            <p:cNvSpPr/>
            <p:nvPr/>
          </p:nvSpPr>
          <p:spPr>
            <a:xfrm>
              <a:off x="863640" y="3174840"/>
              <a:ext cx="26668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6600"/>
                  </a:solidFill>
                  <a:latin typeface="Arial"/>
                  <a:ea typeface="ＭＳ Ｐゴシック"/>
                </a:rPr>
                <a:t>5-10% Targeted Interventions Small Group Tutor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4" name="" descr=""/>
            <p:cNvPicPr/>
            <p:nvPr/>
          </p:nvPicPr>
          <p:blipFill>
            <a:blip r:embed="rId2"/>
            <a:stretch/>
          </p:blipFill>
          <p:spPr>
            <a:xfrm>
              <a:off x="3543120" y="2743200"/>
              <a:ext cx="711000" cy="1066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5" name=""/>
          <p:cNvGrpSpPr/>
          <p:nvPr/>
        </p:nvGrpSpPr>
        <p:grpSpPr>
          <a:xfrm>
            <a:off x="1015920" y="2133720"/>
            <a:ext cx="3251160" cy="761760"/>
            <a:chOff x="1015920" y="2133720"/>
            <a:chExt cx="3251160" cy="761760"/>
          </a:xfrm>
        </p:grpSpPr>
        <p:sp>
          <p:nvSpPr>
            <p:cNvPr id="106" name=""/>
            <p:cNvSpPr/>
            <p:nvPr/>
          </p:nvSpPr>
          <p:spPr>
            <a:xfrm>
              <a:off x="1015920" y="2361960"/>
              <a:ext cx="2743200" cy="38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  <a:ea typeface="ＭＳ Ｐゴシック"/>
                </a:rPr>
                <a:t>1-5% Intensive Individualized Interventio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7" name="" descr=""/>
            <p:cNvPicPr/>
            <p:nvPr/>
          </p:nvPicPr>
          <p:blipFill>
            <a:blip r:embed="rId3"/>
            <a:stretch/>
          </p:blipFill>
          <p:spPr>
            <a:xfrm>
              <a:off x="3885840" y="2133720"/>
              <a:ext cx="381240" cy="761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8" name=""/>
          <p:cNvGrpSpPr/>
          <p:nvPr/>
        </p:nvGrpSpPr>
        <p:grpSpPr>
          <a:xfrm>
            <a:off x="4262400" y="2070000"/>
            <a:ext cx="3219480" cy="838080"/>
            <a:chOff x="4262400" y="2070000"/>
            <a:chExt cx="3219480" cy="838080"/>
          </a:xfrm>
        </p:grpSpPr>
        <p:sp>
          <p:nvSpPr>
            <p:cNvPr id="109" name=""/>
            <p:cNvSpPr/>
            <p:nvPr/>
          </p:nvSpPr>
          <p:spPr>
            <a:xfrm>
              <a:off x="4662720" y="2361960"/>
              <a:ext cx="281916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  <a:ea typeface="ＭＳ Ｐゴシック"/>
                </a:rPr>
                <a:t>1-5% Intensive Individualized Interventio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0" name="" descr=""/>
            <p:cNvPicPr/>
            <p:nvPr/>
          </p:nvPicPr>
          <p:blipFill>
            <a:blip r:embed="rId4"/>
            <a:stretch/>
          </p:blipFill>
          <p:spPr>
            <a:xfrm>
              <a:off x="4262400" y="2070000"/>
              <a:ext cx="387360" cy="838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1" name=""/>
          <p:cNvGrpSpPr/>
          <p:nvPr/>
        </p:nvGrpSpPr>
        <p:grpSpPr>
          <a:xfrm>
            <a:off x="4267080" y="3733920"/>
            <a:ext cx="3276720" cy="2895480"/>
            <a:chOff x="4267080" y="3733920"/>
            <a:chExt cx="3276720" cy="2895480"/>
          </a:xfrm>
        </p:grpSpPr>
        <p:sp>
          <p:nvSpPr>
            <p:cNvPr id="112" name=""/>
            <p:cNvSpPr/>
            <p:nvPr/>
          </p:nvSpPr>
          <p:spPr>
            <a:xfrm>
              <a:off x="5486400" y="4648320"/>
              <a:ext cx="20574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8000"/>
                  </a:solidFill>
                  <a:latin typeface="Arial"/>
                  <a:ea typeface="ＭＳ Ｐゴシック"/>
                </a:rPr>
                <a:t>80-90% School-Wide Positive Discipline</a:t>
              </a:r>
              <a:r>
                <a:rPr b="1" lang="en-US" sz="1400" spc="-1" strike="noStrike">
                  <a:solidFill>
                    <a:srgbClr val="cccc00"/>
                  </a:solidFill>
                  <a:latin typeface="Times New Roman"/>
                  <a:ea typeface="ＭＳ Ｐゴシック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3" name="" descr=""/>
            <p:cNvPicPr/>
            <p:nvPr/>
          </p:nvPicPr>
          <p:blipFill>
            <a:blip r:embed="rId5"/>
            <a:stretch/>
          </p:blipFill>
          <p:spPr>
            <a:xfrm>
              <a:off x="4267080" y="3733920"/>
              <a:ext cx="1800360" cy="2895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4" name=""/>
          <p:cNvGrpSpPr/>
          <p:nvPr/>
        </p:nvGrpSpPr>
        <p:grpSpPr>
          <a:xfrm>
            <a:off x="939960" y="3657600"/>
            <a:ext cx="3313080" cy="2971800"/>
            <a:chOff x="939960" y="3657600"/>
            <a:chExt cx="3313080" cy="2971800"/>
          </a:xfrm>
        </p:grpSpPr>
        <p:sp>
          <p:nvSpPr>
            <p:cNvPr id="115" name=""/>
            <p:cNvSpPr/>
            <p:nvPr/>
          </p:nvSpPr>
          <p:spPr>
            <a:xfrm>
              <a:off x="939960" y="4648320"/>
              <a:ext cx="20574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8000"/>
                  </a:solidFill>
                  <a:latin typeface="Arial"/>
                  <a:ea typeface="ＭＳ Ｐゴシック"/>
                </a:rPr>
                <a:t>80-90% School-Wide Intervention, General Education</a:t>
              </a:r>
              <a:r>
                <a:rPr b="1" lang="en-US" sz="1400" spc="-1" strike="noStrike">
                  <a:solidFill>
                    <a:srgbClr val="cccc00"/>
                  </a:solidFill>
                  <a:latin typeface="Times New Roman"/>
                  <a:ea typeface="ＭＳ Ｐゴシック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6" name="" descr=""/>
            <p:cNvPicPr/>
            <p:nvPr/>
          </p:nvPicPr>
          <p:blipFill>
            <a:blip r:embed="rId6"/>
            <a:stretch/>
          </p:blipFill>
          <p:spPr>
            <a:xfrm>
              <a:off x="2540160" y="3657600"/>
              <a:ext cx="171288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" name=""/>
          <p:cNvSpPr/>
          <p:nvPr/>
        </p:nvSpPr>
        <p:spPr>
          <a:xfrm>
            <a:off x="0" y="5715000"/>
            <a:ext cx="1828800" cy="824040"/>
          </a:xfrm>
          <a:prstGeom prst="rect">
            <a:avLst/>
          </a:prstGeom>
          <a:noFill/>
          <a:ln w="9360">
            <a:solidFill>
              <a:srgbClr val="201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1f7f"/>
                </a:solidFill>
                <a:latin typeface="Arial"/>
                <a:ea typeface="ＭＳ Ｐゴシック"/>
              </a:rPr>
              <a:t>Decisions about tiers of support are data-ba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3200400" y="6129360"/>
            <a:ext cx="1981080" cy="568440"/>
            <a:chOff x="3200400" y="6129360"/>
            <a:chExt cx="1981080" cy="568440"/>
          </a:xfrm>
        </p:grpSpPr>
        <p:sp>
          <p:nvSpPr>
            <p:cNvPr id="119" name=""/>
            <p:cNvSpPr/>
            <p:nvPr/>
          </p:nvSpPr>
          <p:spPr>
            <a:xfrm>
              <a:off x="4127400" y="6149880"/>
              <a:ext cx="304920" cy="307080"/>
            </a:xfrm>
            <a:prstGeom prst="rect">
              <a:avLst/>
            </a:prstGeom>
            <a:solidFill>
              <a:srgbClr val="00e700"/>
            </a:solidFill>
            <a:ln w="9360">
              <a:solidFill>
                <a:srgbClr val="19191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191919"/>
                  </a:solidFill>
                  <a:latin typeface="Times New Roman"/>
                  <a:ea typeface="ＭＳ Ｐゴシック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876920" y="6141960"/>
              <a:ext cx="304560" cy="276480"/>
            </a:xfrm>
            <a:prstGeom prst="rect">
              <a:avLst/>
            </a:prstGeom>
            <a:solidFill>
              <a:srgbClr val="00e700"/>
            </a:solidFill>
            <a:ln w="9360">
              <a:solidFill>
                <a:srgbClr val="19191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191919"/>
                  </a:solidFill>
                  <a:latin typeface="Times New Roman"/>
                  <a:ea typeface="ＭＳ Ｐゴシック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876920" y="6421320"/>
              <a:ext cx="304560" cy="276480"/>
            </a:xfrm>
            <a:prstGeom prst="rect">
              <a:avLst/>
            </a:prstGeom>
            <a:solidFill>
              <a:srgbClr val="00e700"/>
            </a:solidFill>
            <a:ln w="9360">
              <a:solidFill>
                <a:srgbClr val="19191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191919"/>
                  </a:solidFill>
                  <a:latin typeface="Times New Roman"/>
                  <a:ea typeface="ＭＳ Ｐゴシック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27400" y="6418440"/>
              <a:ext cx="304920" cy="276480"/>
            </a:xfrm>
            <a:prstGeom prst="rect">
              <a:avLst/>
            </a:prstGeom>
            <a:solidFill>
              <a:srgbClr val="00e700"/>
            </a:solidFill>
            <a:ln w="9360">
              <a:solidFill>
                <a:srgbClr val="19191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191919"/>
                  </a:solidFill>
                  <a:latin typeface="Times New Roman"/>
                  <a:ea typeface="ＭＳ Ｐゴシック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200400" y="6408720"/>
              <a:ext cx="304920" cy="276480"/>
            </a:xfrm>
            <a:prstGeom prst="rect">
              <a:avLst/>
            </a:prstGeom>
            <a:solidFill>
              <a:srgbClr val="00e700"/>
            </a:solidFill>
            <a:ln w="9360">
              <a:solidFill>
                <a:srgbClr val="19191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191919"/>
                  </a:solidFill>
                  <a:latin typeface="Times New Roman"/>
                  <a:ea typeface="ＭＳ Ｐゴシック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200400" y="6129360"/>
              <a:ext cx="304920" cy="276480"/>
            </a:xfrm>
            <a:prstGeom prst="rect">
              <a:avLst/>
            </a:prstGeom>
            <a:solidFill>
              <a:srgbClr val="00e700"/>
            </a:solidFill>
            <a:ln w="9360">
              <a:solidFill>
                <a:srgbClr val="19191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191919"/>
                  </a:solidFill>
                  <a:latin typeface="Times New Roman"/>
                  <a:ea typeface="ＭＳ Ｐゴシック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304920" y="1219320"/>
            <a:ext cx="8534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apted from OSEP Effective School-Wide Interventions</a:t>
            </a: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457200" y="533520"/>
            <a:ext cx="800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0325b"/>
                </a:solidFill>
                <a:latin typeface="Times New Roman"/>
                <a:ea typeface="ＭＳ Ｐゴシック"/>
              </a:rPr>
              <a:t>Core Components of IBS/P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2438280" y="1447920"/>
            <a:ext cx="2133720" cy="2420640"/>
            <a:chOff x="2438280" y="1447920"/>
            <a:chExt cx="2133720" cy="2420640"/>
          </a:xfrm>
        </p:grpSpPr>
        <p:pic>
          <p:nvPicPr>
            <p:cNvPr id="128" name="" descr=""/>
            <p:cNvPicPr/>
            <p:nvPr/>
          </p:nvPicPr>
          <p:blipFill>
            <a:blip r:embed="rId1"/>
            <a:stretch/>
          </p:blipFill>
          <p:spPr>
            <a:xfrm>
              <a:off x="2438280" y="1447920"/>
              <a:ext cx="2028960" cy="24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3047760" y="2057400"/>
              <a:ext cx="15242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ulturall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Responsiv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Practic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2133720" y="2590920"/>
            <a:ext cx="2330280" cy="2311200"/>
            <a:chOff x="2133720" y="2590920"/>
            <a:chExt cx="2330280" cy="2311200"/>
          </a:xfrm>
        </p:grpSpPr>
        <p:pic>
          <p:nvPicPr>
            <p:cNvPr id="131" name="" descr=""/>
            <p:cNvPicPr/>
            <p:nvPr/>
          </p:nvPicPr>
          <p:blipFill>
            <a:blip r:embed="rId2"/>
            <a:stretch/>
          </p:blipFill>
          <p:spPr>
            <a:xfrm>
              <a:off x="2133720" y="2590920"/>
              <a:ext cx="2330280" cy="231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2286000" y="3200400"/>
              <a:ext cx="167580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Explicit Instruction of Academic &amp; Social Skill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4451400" y="2755800"/>
            <a:ext cx="2330280" cy="2295360"/>
            <a:chOff x="4451400" y="2755800"/>
            <a:chExt cx="2330280" cy="2295360"/>
          </a:xfrm>
        </p:grpSpPr>
        <p:pic>
          <p:nvPicPr>
            <p:cNvPr id="134" name="" descr=""/>
            <p:cNvPicPr/>
            <p:nvPr/>
          </p:nvPicPr>
          <p:blipFill>
            <a:blip r:embed="rId3"/>
            <a:stretch/>
          </p:blipFill>
          <p:spPr>
            <a:xfrm>
              <a:off x="4451400" y="2755800"/>
              <a:ext cx="2330280" cy="22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5289480" y="3441600"/>
              <a:ext cx="13716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Data-Based Decision Mak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470480" y="1447920"/>
            <a:ext cx="2101680" cy="2385720"/>
            <a:chOff x="4470480" y="1447920"/>
            <a:chExt cx="2101680" cy="2385720"/>
          </a:xfrm>
        </p:grpSpPr>
        <p:pic>
          <p:nvPicPr>
            <p:cNvPr id="137" name="" descr=""/>
            <p:cNvPicPr/>
            <p:nvPr/>
          </p:nvPicPr>
          <p:blipFill>
            <a:blip r:embed="rId4"/>
            <a:stretch/>
          </p:blipFill>
          <p:spPr>
            <a:xfrm>
              <a:off x="4470480" y="1447920"/>
              <a:ext cx="2101680" cy="238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4572000" y="2057400"/>
              <a:ext cx="1675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ollaborative Proble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olv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2438280" y="3800520"/>
            <a:ext cx="2048040" cy="2295360"/>
            <a:chOff x="2438280" y="3800520"/>
            <a:chExt cx="2048040" cy="2295360"/>
          </a:xfrm>
        </p:grpSpPr>
        <p:pic>
          <p:nvPicPr>
            <p:cNvPr id="140" name="" descr=""/>
            <p:cNvPicPr/>
            <p:nvPr/>
          </p:nvPicPr>
          <p:blipFill>
            <a:blip r:embed="rId5"/>
            <a:stretch/>
          </p:blipFill>
          <p:spPr>
            <a:xfrm>
              <a:off x="2438280" y="3800520"/>
              <a:ext cx="2048040" cy="22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3124080" y="4648320"/>
              <a:ext cx="11430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Research Validated Practic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444920" y="3809880"/>
            <a:ext cx="1955880" cy="2274840"/>
            <a:chOff x="4444920" y="3809880"/>
            <a:chExt cx="1955880" cy="2274840"/>
          </a:xfrm>
        </p:grpSpPr>
        <p:pic>
          <p:nvPicPr>
            <p:cNvPr id="143" name="" descr=""/>
            <p:cNvPicPr/>
            <p:nvPr/>
          </p:nvPicPr>
          <p:blipFill>
            <a:blip r:embed="rId6"/>
            <a:stretch/>
          </p:blipFill>
          <p:spPr>
            <a:xfrm>
              <a:off x="4444920" y="3809880"/>
              <a:ext cx="1955880" cy="227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4495680" y="4572000"/>
              <a:ext cx="14479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Academic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&amp; Behavioral Supports for Each and Al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4863960" y="3695760"/>
            <a:ext cx="304920" cy="276480"/>
          </a:xfrm>
          <a:prstGeom prst="rect">
            <a:avLst/>
          </a:prstGeom>
          <a:solidFill>
            <a:srgbClr val="00e700"/>
          </a:solidFill>
          <a:ln w="9360">
            <a:solidFill>
              <a:srgbClr val="1919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91919"/>
                </a:solidFill>
                <a:latin typeface="Times New Roman"/>
                <a:ea typeface="ＭＳ Ｐゴシック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648320" y="4267080"/>
            <a:ext cx="304560" cy="276480"/>
          </a:xfrm>
          <a:prstGeom prst="rect">
            <a:avLst/>
          </a:prstGeom>
          <a:solidFill>
            <a:srgbClr val="00e700"/>
          </a:solidFill>
          <a:ln w="9360">
            <a:solidFill>
              <a:srgbClr val="1919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91919"/>
                </a:solidFill>
                <a:latin typeface="Times New Roman"/>
                <a:ea typeface="ＭＳ Ｐゴシック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962520" y="4254480"/>
            <a:ext cx="304560" cy="276480"/>
          </a:xfrm>
          <a:prstGeom prst="rect">
            <a:avLst/>
          </a:prstGeom>
          <a:solidFill>
            <a:srgbClr val="00e700"/>
          </a:solidFill>
          <a:ln w="9360">
            <a:solidFill>
              <a:srgbClr val="1919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91919"/>
                </a:solidFill>
                <a:latin typeface="Times New Roman"/>
                <a:ea typeface="ＭＳ Ｐゴシック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720960" y="3645000"/>
            <a:ext cx="304920" cy="276480"/>
          </a:xfrm>
          <a:prstGeom prst="rect">
            <a:avLst/>
          </a:prstGeom>
          <a:solidFill>
            <a:srgbClr val="00e700"/>
          </a:solidFill>
          <a:ln w="9360">
            <a:solidFill>
              <a:srgbClr val="1919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91919"/>
                </a:solidFill>
                <a:latin typeface="Times New Roman"/>
                <a:ea typeface="ＭＳ Ｐゴシック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038480" y="3174840"/>
            <a:ext cx="304920" cy="276480"/>
          </a:xfrm>
          <a:prstGeom prst="rect">
            <a:avLst/>
          </a:prstGeom>
          <a:solidFill>
            <a:srgbClr val="00e700"/>
          </a:solidFill>
          <a:ln w="9360">
            <a:solidFill>
              <a:srgbClr val="1919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91919"/>
                </a:solidFill>
                <a:latin typeface="Times New Roman"/>
                <a:ea typeface="ＭＳ Ｐゴシック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584600" y="3174840"/>
            <a:ext cx="304920" cy="276480"/>
          </a:xfrm>
          <a:prstGeom prst="rect">
            <a:avLst/>
          </a:prstGeom>
          <a:solidFill>
            <a:srgbClr val="00e700"/>
          </a:solidFill>
          <a:ln w="9360">
            <a:solidFill>
              <a:srgbClr val="1919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91919"/>
                </a:solidFill>
                <a:latin typeface="Times New Roman"/>
                <a:ea typeface="ＭＳ Ｐゴシック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2120" y="385560"/>
            <a:ext cx="777384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Three-Tiered RTI Model</a:t>
            </a:r>
            <a:br>
              <a:rPr sz="3800"/>
            </a:b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	</a:t>
            </a: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Arizona’s depiction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2" name=""/>
          <p:cNvSpPr/>
          <p:nvPr/>
        </p:nvSpPr>
        <p:spPr>
          <a:xfrm>
            <a:off x="762120" y="1676520"/>
            <a:ext cx="5029200" cy="4952880"/>
          </a:xfrm>
          <a:prstGeom prst="ellipse">
            <a:avLst/>
          </a:prstGeom>
          <a:solidFill>
            <a:srgbClr val="0099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ヒラギノ角ゴ Pro W3"/>
                <a:ea typeface="ＭＳ Ｐゴシック"/>
              </a:rPr>
              <a:t>_x0003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133720" y="3200400"/>
            <a:ext cx="2590560" cy="2590920"/>
          </a:xfrm>
          <a:prstGeom prst="ellipse">
            <a:avLst/>
          </a:prstGeom>
          <a:solidFill>
            <a:srgbClr val="ff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352680" y="4572000"/>
            <a:ext cx="1038240" cy="1066680"/>
          </a:xfrm>
          <a:prstGeom prst="ellipse">
            <a:avLst/>
          </a:prstGeom>
          <a:solidFill>
            <a:srgbClr val="ff00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066680" y="2057400"/>
            <a:ext cx="250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791320" y="213372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L Stud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298200" y="3657600"/>
            <a:ext cx="1585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ud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400800" y="5029200"/>
            <a:ext cx="152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 FEW Stud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4114440" y="5257800"/>
            <a:ext cx="2438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4114800" y="3886200"/>
            <a:ext cx="2286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4114440" y="2438280"/>
            <a:ext cx="2438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RtI and Federal Regulation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d by NCLB, ID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ing of general edu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e curriculum that addresses needs of all students and all sub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lemental instruction for struggling rea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nsive interventions for students who have not experienced su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 over discrepa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Federal Mone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5 percent of IDEA Part B funds can be used for early interven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fessional develop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ther servi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CLB fun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Five Components of Reading Instruc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1371600" y="2362320"/>
            <a:ext cx="64008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700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onemic Aware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on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u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cabul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reh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Five Missing Pillars of Reading Instruc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905120" y="1904760"/>
            <a:ext cx="6400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575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ccess to interesting texts and choic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75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atching kids with appropriate tex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75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Writing and Reading have reciprocal positive effec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75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alance whole class teaching with small group and side by side instruc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75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vailability of expert tutoring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69240" y="6521400"/>
            <a:ext cx="462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ichard Allington, Ph.D., University of Tenness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1523880" y="380880"/>
            <a:ext cx="739152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675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lled with books and writing material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75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ompositions and illustrations about books prominently displaye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75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de variety of genre available--informational texts and literatur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75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Opportunity to read independently--self selected book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75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pecial book centers and places to read comfortabl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75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requent visits to the librar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75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eacher-led discussions of book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75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tnering with another child or pare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343400" y="6521400"/>
            <a:ext cx="44956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ssley, Rankin Yokoi, 1996   Cunningham, 200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4T23:57:35Z</dcterms:created>
  <dc:creator>CMagliocco</dc:creator>
  <dc:description/>
  <dc:language>en-US</dc:language>
  <cp:lastModifiedBy>cmagliocco</cp:lastModifiedBy>
  <dcterms:modified xsi:type="dcterms:W3CDTF">2007-10-15T13:50:58Z</dcterms:modified>
  <cp:revision>5</cp:revision>
  <dc:subject/>
  <dc:title>Slide 1</dc:title>
</cp:coreProperties>
</file>